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0EAB2-1B04-4C63-B80B-DF3FC6125C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C5FB7-A643-4B77-AC8D-FF436AC40D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03400" y="5936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64592-9B53-40F3-BEF8-6DB8496C82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EEF3F8-EB1F-4858-9FD7-D62A346856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114F7F-D420-41DE-825D-E1FEEDDF91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9A7D89-E427-4461-9A53-FE99BCC6BF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9886AF-ACE0-49CB-ABDA-9C9363B87B8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904B7E-23F1-4AB0-9CC6-7A7C7F3E8A5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8914B6-5A25-4B15-9C63-83571D34F1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5955B8-3E22-4D30-AB05-CC8D65EDA1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58E756-59C9-4A88-B87A-3B3A50E61A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5427FC-7F76-438B-A29C-81245FD240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B579F5-AFF5-4DB8-A482-98A1A74601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DE156E-FF63-4281-BD3F-38ED9F7069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BC8B88-EDB8-4EA4-A052-D173AE0F87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80778-43D8-42A6-821D-A8B95B69F5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alinskie.com/luxury-property-las-vegas-up-for-sale-nicolas-cage-former-house-design/modern-home-theatre-nicolas-cages-former-house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alinskie.com/luxury-property-las-vegas-up-for-sale-nicolas-cage-former-house-design/contemporary-small-kitchen-nicolas-cages-former-house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alinskie.com/luxury-property-las-vegas-up-for-sale-nicolas-cage-former-house-design/wooden-laundry-room-interior-nicolas-cages-former-house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alinskie.com/luxury-property-las-vegas-up-for-sale-nicolas-cage-former-house-design/innovative-bathroom-floor-plan-nicolas-cages-former-house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00" descr="http://www.bergproperties.com/blog/wp-content/uploads/2007/02/spanish.jpg"/>
          <p:cNvPicPr/>
          <p:nvPr/>
        </p:nvPicPr>
        <p:blipFill>
          <a:blip r:embed="rId1"/>
          <a:stretch/>
        </p:blipFill>
        <p:spPr>
          <a:xfrm>
            <a:off x="3886200" y="1828800"/>
            <a:ext cx="4724280" cy="3284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icholas cage’s le chÂte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6840" y="1600200"/>
            <a:ext cx="3048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 cest la devant sa maison en Las Vaga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st bea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04" descr="http://www-deadline-com.vimg.net/wp-content/uploads/2010/08/nicolas_cage.jpg"/>
          <p:cNvPicPr/>
          <p:nvPr/>
        </p:nvPicPr>
        <p:blipFill>
          <a:blip r:embed="rId2"/>
          <a:stretch/>
        </p:blipFill>
        <p:spPr>
          <a:xfrm>
            <a:off x="7032600" y="5105520"/>
            <a:ext cx="122400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 sal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" descr="Modern Home Theatre Nicolas Cages Former House Luxury Property Las Vegas Up for Sale Nicolas Cage Former House Design 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90920" y="2362320"/>
            <a:ext cx="6324480" cy="4213080"/>
          </a:xfrm>
          <a:prstGeom prst="rect">
            <a:avLst/>
          </a:prstGeom>
          <a:ln w="0">
            <a:noFill/>
          </a:ln>
        </p:spPr>
      </p:pic>
      <p:sp>
        <p:nvSpPr>
          <p:cNvPr id="53" name="TextBox 3"/>
          <p:cNvSpPr/>
          <p:nvPr/>
        </p:nvSpPr>
        <p:spPr>
          <a:xfrm>
            <a:off x="304920" y="3124080"/>
            <a:ext cx="1676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st ou il regarde la tel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 cuis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6840" y="1600200"/>
            <a:ext cx="2895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st 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isine. Regarde les lumiere et commente est brilla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2" descr="Contemporary Small Kitchen Nicolas Cages Former House Luxury Property Las Vegas Up for Sale Nicolas Cage Former House Design 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81280" y="1676520"/>
            <a:ext cx="526284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Salle de machine a laver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2743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arde commente il a quatre machines a laver. Je me demand pourqoi il a besoin de quatre nouvelle machines a la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8" descr="Wooden Laundry Room Interior Nicolas Cages Former House Luxury Property Las Vegas Up for Sale Nicolas Cage Former House Design 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733920" y="2286000"/>
            <a:ext cx="4952880" cy="32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La salle de bain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2743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st la salle de bains. Elle est bel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2" descr="Innovative Bathroom Floor Plan Nicolas Cages Former House Luxury Property Las Vegas Up for Sale Nicolas Cage Former House Design ">
            <a:hlinkClick r:id="rId1"/>
          </p:cNvPr>
          <p:cNvPicPr/>
          <p:nvPr/>
        </p:nvPicPr>
        <p:blipFill>
          <a:blip r:embed="rId2"/>
          <a:srcRect l="0" t="0" r="0" b="14463"/>
          <a:stretch/>
        </p:blipFill>
        <p:spPr>
          <a:xfrm>
            <a:off x="3657600" y="1371600"/>
            <a:ext cx="519444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Box 3"/>
          <p:cNvSpPr/>
          <p:nvPr/>
        </p:nvSpPr>
        <p:spPr>
          <a:xfrm flipH="1">
            <a:off x="2742480" y="609480"/>
            <a:ext cx="5257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est piscin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Group 16"/>
          <p:cNvGrpSpPr/>
          <p:nvPr/>
        </p:nvGrpSpPr>
        <p:grpSpPr>
          <a:xfrm>
            <a:off x="2590920" y="1752480"/>
            <a:ext cx="6095880" cy="4667400"/>
            <a:chOff x="2590920" y="1752480"/>
            <a:chExt cx="6095880" cy="4667400"/>
          </a:xfrm>
        </p:grpSpPr>
        <p:pic>
          <p:nvPicPr>
            <p:cNvPr id="65" name="Picture 2" descr="Modern Outdoor Pool Design Nicolas Cage's Former House"/>
            <p:cNvPicPr/>
            <p:nvPr/>
          </p:nvPicPr>
          <p:blipFill>
            <a:blip r:embed="rId1"/>
            <a:stretch/>
          </p:blipFill>
          <p:spPr>
            <a:xfrm>
              <a:off x="2590920" y="1752480"/>
              <a:ext cx="6095880" cy="466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TextBox 4"/>
            <p:cNvSpPr/>
            <p:nvPr/>
          </p:nvSpPr>
          <p:spPr>
            <a:xfrm>
              <a:off x="3200400" y="1904760"/>
              <a:ext cx="1371600" cy="33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La terrass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7" name="Straight Arrow Connector 6"/>
            <p:cNvCxnSpPr/>
            <p:nvPr/>
          </p:nvCxnSpPr>
          <p:spPr>
            <a:xfrm>
              <a:off x="3809880" y="2209320"/>
              <a:ext cx="1753200" cy="686520"/>
            </a:xfrm>
            <a:prstGeom prst="straightConnector1">
              <a:avLst/>
            </a:prstGeom>
            <a:ln w="57240">
              <a:solidFill>
                <a:srgbClr val="ffffff"/>
              </a:solidFill>
              <a:miter/>
              <a:tailEnd len="med" type="arrow" w="med"/>
            </a:ln>
          </p:spPr>
        </p:cxnSp>
        <p:sp>
          <p:nvSpPr>
            <p:cNvPr id="68" name="TextBox 9"/>
            <p:cNvSpPr/>
            <p:nvPr/>
          </p:nvSpPr>
          <p:spPr>
            <a:xfrm>
              <a:off x="3276720" y="3886560"/>
              <a:ext cx="1371600" cy="64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aud pisci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9" name="Straight Arrow Connector 11"/>
            <p:cNvCxnSpPr/>
            <p:nvPr/>
          </p:nvCxnSpPr>
          <p:spPr>
            <a:xfrm>
              <a:off x="4571640" y="4343400"/>
              <a:ext cx="1448280" cy="381600"/>
            </a:xfrm>
            <a:prstGeom prst="straightConnector1">
              <a:avLst/>
            </a:prstGeom>
            <a:ln w="57240">
              <a:solidFill>
                <a:srgbClr val="ffffff"/>
              </a:solidFill>
              <a:miter/>
              <a:tailEnd len="med" type="arrow" w="med"/>
            </a:ln>
          </p:spPr>
        </p:cxnSp>
        <p:sp>
          <p:nvSpPr>
            <p:cNvPr id="70" name="TextBox 13"/>
            <p:cNvSpPr/>
            <p:nvPr/>
          </p:nvSpPr>
          <p:spPr>
            <a:xfrm>
              <a:off x="3276720" y="5105880"/>
              <a:ext cx="91440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sci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" name=""/>
          <p:cNvSpPr txBox="1"/>
          <p:nvPr/>
        </p:nvSpPr>
        <p:spPr>
          <a:xfrm>
            <a:off x="-360" y="1905120"/>
            <a:ext cx="2590920" cy="39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’est la derierre de la maison. Voyez dessein impressionnant avec la chaud piscinei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4" descr="Image"/>
          <p:cNvPicPr/>
          <p:nvPr/>
        </p:nvPicPr>
        <p:blipFill>
          <a:blip r:embed="rId1"/>
          <a:stretch/>
        </p:blipFill>
        <p:spPr>
          <a:xfrm>
            <a:off x="4495680" y="1905120"/>
            <a:ext cx="4145040" cy="3429000"/>
          </a:xfrm>
          <a:prstGeom prst="rect">
            <a:avLst/>
          </a:prstGeom>
          <a:ln w="0">
            <a:noFill/>
          </a:ln>
        </p:spPr>
      </p:pic>
      <p:sp>
        <p:nvSpPr>
          <p:cNvPr id="73" name="TextBox 4"/>
          <p:cNvSpPr/>
          <p:nvPr/>
        </p:nvSpPr>
        <p:spPr>
          <a:xfrm>
            <a:off x="2895480" y="457200"/>
            <a:ext cx="35053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Foyer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533160" y="1600200"/>
            <a:ext cx="3733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st le foyer. Regarde la belle lumiere et le brillant s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Elegant Master Bedroom Nicolas Cages Former House Luxury Property Las Vegas Up for Sale Nicolas Cage Former House Design "/>
          <p:cNvPicPr/>
          <p:nvPr/>
        </p:nvPicPr>
        <p:blipFill>
          <a:blip r:embed="rId1"/>
          <a:stretch/>
        </p:blipFill>
        <p:spPr>
          <a:xfrm>
            <a:off x="3962520" y="1981080"/>
            <a:ext cx="4800600" cy="3468960"/>
          </a:xfrm>
          <a:prstGeom prst="rect">
            <a:avLst/>
          </a:prstGeom>
          <a:ln w="0">
            <a:noFill/>
          </a:ln>
        </p:spPr>
      </p:pic>
      <p:sp>
        <p:nvSpPr>
          <p:cNvPr id="76" name="TextBox 6"/>
          <p:cNvSpPr/>
          <p:nvPr/>
        </p:nvSpPr>
        <p:spPr>
          <a:xfrm>
            <a:off x="2209680" y="990720"/>
            <a:ext cx="33530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7"/>
          <p:cNvSpPr/>
          <p:nvPr/>
        </p:nvSpPr>
        <p:spPr>
          <a:xfrm>
            <a:off x="1981080" y="533520"/>
            <a:ext cx="5334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a chambr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6840" y="1600200"/>
            <a:ext cx="3505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st le chambre premiere. il est grand. Problement Nicholas Cage se couche ici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2T14:06:50Z</dcterms:created>
  <dc:creator>TMOIT</dc:creator>
  <dc:description/>
  <dc:language>en-US</dc:language>
  <cp:lastModifiedBy>TMOIT</cp:lastModifiedBy>
  <dcterms:modified xsi:type="dcterms:W3CDTF">2011-11-17T01:10:22Z</dcterms:modified>
  <cp:revision>16</cp:revision>
  <dc:subject/>
  <dc:title>Slide 1</dc:title>
</cp:coreProperties>
</file>